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836-FEF9-4FAF-B4CB-52886B87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7A2-CA30-41D3-AE14-5BA2C14F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34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E44-4C3E-4F08-A597-42F6170F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80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7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80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7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FB7-FB8E-44A4-A701-F8E1FC05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F37-7B81-47AB-B4BF-A848A35F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1A29-B785-4A4D-ADF2-10286A4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BB7-A44F-4454-8A49-A6027DB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67A0-589E-457E-A96C-06BC991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2AC4-559A-48EB-AC20-CD591B5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67D3-91A4-43EA-94B6-70255F7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9C2E-2150-4E4E-927F-8ADD7F31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689-0605-4F21-85D5-98C50D9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34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A538-F500-4B7B-821E-044A423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159C-032F-4F5E-A544-54EB765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2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573E-0F88-4B0D-9F9A-C5341DD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34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532-316B-4ABA-90B3-D1E2B1C5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80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07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2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80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07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47DE-5716-4153-B220-79C3C46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F4C-98FD-4B7A-8F38-7307B42D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851-290F-4C0A-A6F6-E76AC500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400-0F57-4BB6-A96A-5C13EC8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3E3-D14F-46CC-839B-07CF35C2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9A9-34A1-4942-9A4D-0775D27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34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3A5-E1B0-4D5B-9779-109CDE7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34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104-AAB6-4F68-AE22-860B52D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C8C-7171-4B27-8471-41FE7E45D863}" type="datetime"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24000" y="6324480"/>
            <a:ext cx="388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0030-2991-4016-9FAF-18C3DB370365}" type="slidenum"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86680" y="0"/>
            <a:ext cx="2857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2FE4-9AA1-42A1-BFB9-041F376E0A42}" type="datetime"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334120" y="640080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F95-DFA4-475D-A45C-A860B56D2BD0}" type="slidenum">
              <a:rPr b="0" lang="ja-JP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今すぐ必要な人材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360" y="40381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変化の時代を活かす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成功する能力</a:t>
            </a:r>
            <a:br>
              <a:rPr sz="4400"/>
            </a:b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コンピテンシー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ペンサー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etence at Work”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高業績者の「</a:t>
            </a: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行動の違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を科学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資格・経歴だけではわから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550C4-2C78-4ADA-846E-957808B9D7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クルート　ワークス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課題・対自己・対人・専門性／セ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課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現状把握…情報収集・問題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課題形成…構想・企画・発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行…判断・手順化・完遂・検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自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積極性・貢献志向・社会性・モラル・環境適応・自己統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理解…対人理解・状況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伝え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情報伝達力・表現技術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協働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関係構築・相互学習・育成・評価・方向付け・動機づけ・対外的影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専門性・セン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知識・スキル・経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事業感覚・営業感覚・利益感覚・効率感覚・品質感覚・国際感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3300"/>
                </a:solidFill>
                <a:latin typeface="Arial Black"/>
              </a:rPr>
              <a:t>「コンピテンシー　ディクショナリー」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5B7C0-EF50-4824-B0A3-0F727CB94F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まとめ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知識社会の到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知的資本経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ストが競争力の源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人と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価値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自己マネジ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コンピテンシー（行動力・特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F2346-34C9-4434-8384-16D2DA605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付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久保幸夫「能力を楽しむ社会」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経済新聞社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Ｐ・Ｆ・ドラッカー「明日を支配するもの」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経済新聞社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ダニエル・ゴールマン「ＥＱ　こころの知能指数」講談社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沢武志ら「人事アセスメントハンドブック」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金子書房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259D1-D5E8-4109-84EA-036DDBC4E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競争に勝つ人材を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いまま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言語化されなかっ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部分に注目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価値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を優先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得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モノを活かし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成し遂げ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相手の価値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仕事の仕方を知った上で仕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人間関係の摩擦はな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自らのマネジメン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012CE-6A4C-4C86-BF05-DF62785248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パラダイムの変化</a:t>
            </a:r>
            <a:br>
              <a:rPr sz="4400"/>
            </a:b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知識社会へ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肉体労働中心→知識労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テクノロジストの台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識をもって肉体労働を行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度技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競争力＝テクノロジストの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Ｐ・Ｆ・ドラッカ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00AA6-4919-4E7A-BCDF-D5A44F9324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２０世紀の基盤</a:t>
            </a:r>
            <a:br>
              <a:rPr sz="4400"/>
            </a:b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～テイラーの偉業～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レデリック・ウィンスロー・テイラー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仕事を動作に分解して時間を計測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無駄な動作を省き、組立直し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要な道具を開発す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産性５０倍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知識労働にもあてはまるだろう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6900C-1E54-4ED5-8B00-F89C419F0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 Black"/>
              </a:rPr>
              <a:t>知識社会</a:t>
            </a:r>
            <a:br>
              <a:rPr sz="3600"/>
            </a:br>
            <a:r>
              <a:rPr b="0" lang="zh-CN" sz="3600" spc="-1" strike="noStrike">
                <a:solidFill>
                  <a:srgbClr val="003300"/>
                </a:solidFill>
                <a:latin typeface="Arial Black"/>
              </a:rPr>
              <a:t>「質」が問われる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肉体労働→最低限守るもの＝制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知識労働→そのものが本質であ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強みを明らかにす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強みで成し遂げる仕事をす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れ以外を省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Ｐ・Ｆ・ドラッカ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6995D-895E-41F4-ADF8-330B4F252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知識社会</a:t>
            </a:r>
            <a:br>
              <a:rPr sz="4400"/>
            </a:b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知的資本経営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「知的資本経営」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人材＝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トマス・スチュアー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企業総価値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＝ 財務資本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知的資本（人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フ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リーフ・エドヴィンソ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さて日本型リストラ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8EAFE-9F2E-47D5-9BB9-0B6AEB26B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762120" y="457200"/>
          <a:ext cx="6933960" cy="58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6933960" cy="58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895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知的資本経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知識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80" y="2438280"/>
            <a:ext cx="911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個人　←　経営　←　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位置づけを整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これからの能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39EC4-5BB9-4CB2-96AD-FB6404F229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7920" y="609480"/>
            <a:ext cx="4903560" cy="624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76520" y="16765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技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技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ノウハ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581280"/>
            <a:ext cx="2209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コンピテンシ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5105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ＩＱ・Ｅ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133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114800"/>
            <a:ext cx="2666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面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「外から見えない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成果”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反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371600"/>
            <a:ext cx="205740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面上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氷山の一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狭義の能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能力とは？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55A7A-9A5A-41AE-80E1-A84F00677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00"/>
                </a:solidFill>
                <a:latin typeface="Arial Black"/>
              </a:rPr>
              <a:t>ＩＱからＥＱへ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の気持ちで納得行く決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衝動・ストレスなどの感情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挫折しても楽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調和・協力などの社会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ダニエル・ゴールマ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2003 サンドットコム  http://se-san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5BC4E-6A03-43F3-873E-B77D8BCD03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5T14:52:55Z</dcterms:created>
  <dc:creator>a</dc:creator>
  <dc:description/>
  <dc:language>en-US</dc:language>
  <cp:lastModifiedBy>a</cp:lastModifiedBy>
  <cp:lastPrinted>2000-08-22T11:59:00Z</cp:lastPrinted>
  <dcterms:modified xsi:type="dcterms:W3CDTF">2003-11-26T06:57:55Z</dcterms:modified>
  <cp:revision>51</cp:revision>
  <dc:subject/>
  <dc:title>今から必要な人材像</dc:title>
</cp:coreProperties>
</file>